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9697C6-5749-4822-9079-91410726AC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7102CF-F5DE-4D52-AC17-1844AA963B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444373C-5A7D-486B-89B2-08C33CFC14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706387C-D364-4952-B3B5-908BFCF379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1BF5F0-50EE-493F-9CEE-76AF9FB65A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840F5AB-8B19-4459-9F99-15DE5AAA02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6E1020-06BB-45D4-885D-D04D719FCE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AFA4F6D-7B90-4EEC-A35B-63A2A91342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775AF55-2378-4108-A888-503C3C1630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3278C5-C116-4D97-8966-CA2CC48809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41F2A1-58AE-464B-AFCF-DA24A15A24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964DBC5-E9E9-4A0D-8DE0-DE67F1CD71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E9051-3944-4933-8859-41E65B75A86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2205000"/>
            <a:ext cx="6697440" cy="29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br>
              <a:rPr sz="2800"/>
            </a:br>
            <a:r>
              <a:rPr b="1" lang="zh-CN" sz="3200" spc="-1" strike="noStrike">
                <a:solidFill>
                  <a:srgbClr val="ffffff"/>
                </a:solidFill>
                <a:latin typeface="Verdana"/>
                <a:ea typeface="宋体"/>
              </a:rPr>
              <a:t>                 </a:t>
            </a: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九节    截肢后的康复护理</a:t>
            </a:r>
            <a:endParaRPr b="0" lang="en-US" sz="3200" spc="-1" strike="noStrike">
              <a:solidFill>
                <a:srgbClr val="ffffff"/>
              </a:solidFill>
              <a:latin typeface="Verdana"/>
            </a:endParaRPr>
          </a:p>
        </p:txBody>
      </p:sp>
      <p:sp>
        <p:nvSpPr>
          <p:cNvPr id="105" name="Text Box 5"/>
          <p:cNvSpPr/>
          <p:nvPr/>
        </p:nvSpPr>
        <p:spPr>
          <a:xfrm>
            <a:off x="6443640" y="557856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王俊华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维持与改善</a:t>
            </a:r>
            <a:r>
              <a:rPr b="1" lang="en-US" sz="2800" spc="-1" strike="noStrike">
                <a:solidFill>
                  <a:srgbClr val="ff0066"/>
                </a:solidFill>
                <a:latin typeface="Verdana"/>
                <a:ea typeface="宋体"/>
              </a:rPr>
              <a:t>ROM </a:t>
            </a:r>
            <a:r>
              <a:rPr b="1" lang="zh-CN" sz="2800" spc="-1" strike="noStrike">
                <a:solidFill>
                  <a:srgbClr val="ff0066"/>
                </a:solidFill>
                <a:latin typeface="Verdana"/>
                <a:ea typeface="宋体"/>
              </a:rPr>
              <a:t>训练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肩胛、胸廓</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肩</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髋</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膝</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恢复体力、增强肌力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下肢站立平衡训练及拐杖的使用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上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后的训练 </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下肢截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穿戴假肢，平行杠内站立平衡</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健足前迈步，横向迈步，后退练习</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平行杠外用拐杖行走，上下斜坡，上下阶梯，越过障碍物，倒地后再站起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假肢穿戴后的训练</a:t>
            </a:r>
            <a:endParaRPr b="0" lang="en-US" sz="2800" spc="-1" strike="noStrike">
              <a:solidFill>
                <a:srgbClr val="ffffff"/>
              </a:solidFill>
              <a:latin typeface="Verdana"/>
            </a:endParaRPr>
          </a:p>
        </p:txBody>
      </p:sp>
      <p:sp>
        <p:nvSpPr>
          <p:cNvPr id="129" name="PlaceHolder 2"/>
          <p:cNvSpPr>
            <a:spLocks noGrp="1"/>
          </p:cNvSpPr>
          <p:nvPr>
            <p:ph/>
          </p:nvPr>
        </p:nvSpPr>
        <p:spPr>
          <a:xfrm>
            <a:off x="304560" y="1371240"/>
            <a:ext cx="549108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上肢截肢</a:t>
            </a:r>
            <a:endParaRPr b="1" lang="en-US" sz="28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穿戴训练，上臂截肢屈伸肘和开启肘锁训练，前臂截肢机械手控制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海绵块、纸杯作为最初的训练对象，稍后改为橡皮块、木块，然后将块形换为圆形</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抓握和释放训练，行穿脱衣服、洗漱修饰和</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30" name="Picture 4" descr=""/>
          <p:cNvPicPr/>
          <p:nvPr/>
        </p:nvPicPr>
        <p:blipFill>
          <a:blip r:embed="rId1"/>
          <a:stretch/>
        </p:blipFill>
        <p:spPr>
          <a:xfrm>
            <a:off x="5872320" y="1916280"/>
            <a:ext cx="327168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残肢并发症的康复护理</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肿胀</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挛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适当的体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残端卫生和假肢接受腔的清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残肢肿胀或脂肪沉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上的鼓励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7"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r>
              <a:rPr b="1" lang="zh-CN" sz="2800" spc="-1" strike="noStrike">
                <a:solidFill>
                  <a:srgbClr val="8ac8de"/>
                </a:solidFill>
                <a:latin typeface="Verdana"/>
                <a:ea typeface="宋体"/>
              </a:rPr>
              <a:t>截肢是指将没有生命和功能或因局部疾病严重威胁生命的肢体截除的手术，其中包括截骨和关节离断两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是一种破坏性手术，也是一种建设性手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后的康复护理是指从截肢手术后处理到假肢的安装和使用直至重返社会全过程的康复训练与护理。 </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 </a:t>
            </a:r>
            <a:endParaRPr b="0" lang="en-US" sz="3200" spc="-1" strike="noStrike">
              <a:solidFill>
                <a:srgbClr val="ffffff"/>
              </a:solidFill>
              <a:latin typeface="Verdana"/>
            </a:endParaRPr>
          </a:p>
        </p:txBody>
      </p:sp>
      <p:sp>
        <p:nvSpPr>
          <p:cNvPr id="110" name="PlaceHolder 2"/>
          <p:cNvSpPr>
            <a:spLocks noGrp="1"/>
          </p:cNvSpPr>
          <p:nvPr>
            <p:ph/>
          </p:nvPr>
        </p:nvSpPr>
        <p:spPr>
          <a:xfrm>
            <a:off x="468360" y="1773360"/>
            <a:ext cx="8370720" cy="421776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皮肤破溃、窦道、瘢痕、角化</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骨突出、外形不良</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关节挛缩</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肿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 </a:t>
            </a:r>
            <a:endParaRPr b="0" lang="en-US" sz="3200" spc="-1" strike="noStrike">
              <a:solidFill>
                <a:srgbClr val="ffffff"/>
              </a:solidFill>
              <a:latin typeface="Verdana"/>
            </a:endParaRPr>
          </a:p>
        </p:txBody>
      </p:sp>
      <p:sp>
        <p:nvSpPr>
          <p:cNvPr id="112" name="PlaceHolder 2"/>
          <p:cNvSpPr>
            <a:spLocks noGrp="1"/>
          </p:cNvSpPr>
          <p:nvPr>
            <p:ph/>
          </p:nvPr>
        </p:nvSpPr>
        <p:spPr>
          <a:xfrm>
            <a:off x="304920" y="1557000"/>
            <a:ext cx="8610480" cy="469116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情况评定</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的评定：残肢外形 ， </a:t>
            </a:r>
            <a:r>
              <a:rPr b="1" lang="en-US" sz="2800" spc="-1" strike="noStrike">
                <a:solidFill>
                  <a:srgbClr val="8ac8de"/>
                </a:solidFill>
                <a:latin typeface="Verdana"/>
                <a:ea typeface="宋体"/>
              </a:rPr>
              <a:t>ROM </a:t>
            </a:r>
            <a:r>
              <a:rPr b="1" lang="zh-CN" sz="2800" spc="-1" strike="noStrike">
                <a:solidFill>
                  <a:srgbClr val="8ac8de"/>
                </a:solidFill>
                <a:latin typeface="Verdana"/>
                <a:ea typeface="宋体"/>
              </a:rPr>
              <a:t>，皮肤情况 ，残肢长度 ，残肢肌力评定 ，残肢痛及幻肢痛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装配假肢后</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的评定 ：上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下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4" name="PlaceHolder 2"/>
          <p:cNvSpPr>
            <a:spLocks noGrp="1"/>
          </p:cNvSpPr>
          <p:nvPr>
            <p:ph/>
          </p:nvPr>
        </p:nvSpPr>
        <p:spPr>
          <a:xfrm>
            <a:off x="304920" y="1700280"/>
            <a:ext cx="8610480" cy="4548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假肢前的目标</a:t>
            </a: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运动功能：</a:t>
            </a:r>
            <a:r>
              <a:rPr b="1" lang="zh-CN" sz="2400" spc="-1" strike="noStrike">
                <a:solidFill>
                  <a:srgbClr val="8ac8de"/>
                </a:solidFill>
                <a:latin typeface="Verdana"/>
                <a:ea typeface="宋体"/>
              </a:rPr>
              <a:t>改善</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增强残肢肌力，增强皮肤的强度，消除残端肿胀，增强健侧上下肢和躯干的肌力，提高平衡协调能力，增强全身体能。</a:t>
            </a:r>
            <a:endParaRPr b="1" lang="en-US" sz="24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康复教育</a:t>
            </a:r>
            <a:r>
              <a:rPr b="1" lang="en-US" sz="2400" spc="-1" strike="noStrike">
                <a:solidFill>
                  <a:srgbClr val="ff0066"/>
                </a:solidFill>
                <a:latin typeface="Verdana"/>
                <a:ea typeface="宋体"/>
              </a:rPr>
              <a:t>——</a:t>
            </a:r>
            <a:r>
              <a:rPr b="1" lang="zh-CN" sz="2400" spc="-1" strike="noStrike">
                <a:solidFill>
                  <a:srgbClr val="8ac8de"/>
                </a:solidFill>
                <a:latin typeface="Verdana"/>
                <a:ea typeface="宋体"/>
              </a:rPr>
              <a:t>赢得患者的信任和认同，配合康复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315280" cy="487692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临时假肢后的目标与计划</a:t>
            </a: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掌握穿戴的正确方法；下肢应立位平衡；假肢侧单腿站立时间在</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s</a:t>
            </a:r>
            <a:r>
              <a:rPr b="1" lang="zh-CN" sz="2400" spc="-1" strike="noStrike">
                <a:solidFill>
                  <a:srgbClr val="8ac8de"/>
                </a:solidFill>
                <a:latin typeface="Verdana"/>
                <a:ea typeface="宋体"/>
              </a:rPr>
              <a:t>以上，不用拐杖行走、上下台阶、迈门槛、左右旋转。</a:t>
            </a:r>
            <a:endParaRPr b="1" lang="en-US" sz="24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穿戴假肢训练、站立平衡训练、平行杠内步行训练、应用动作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正式假肢后的目标与计划</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减少异常步态，跌倒后能站起，对意外能作出反应，提高步行能力，假手能达到</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自理。</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 砂石、泥土、不平路面行走训练；跨障碍训练，跌倒后站立训练；异常步态矫正训练，假手灵活性训练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方法及护理措施 </a:t>
            </a:r>
            <a:endParaRPr b="0" lang="en-US" sz="3200" spc="-1" strike="noStrike">
              <a:solidFill>
                <a:srgbClr val="ffffff"/>
              </a:solidFill>
              <a:latin typeface="Verdana"/>
            </a:endParaRPr>
          </a:p>
        </p:txBody>
      </p:sp>
      <p:sp>
        <p:nvSpPr>
          <p:cNvPr id="120" name="PlaceHolder 2"/>
          <p:cNvSpPr>
            <a:spLocks noGrp="1"/>
          </p:cNvSpPr>
          <p:nvPr>
            <p:ph/>
          </p:nvPr>
        </p:nvSpPr>
        <p:spPr>
          <a:xfrm>
            <a:off x="304560" y="1371240"/>
            <a:ext cx="505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端包扎 ：硬绷带包扎术及软绷带包扎技术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前的训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后的训练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1" name="Picture 4" descr=""/>
          <p:cNvPicPr/>
          <p:nvPr/>
        </p:nvPicPr>
        <p:blipFill>
          <a:blip r:embed="rId1"/>
          <a:stretch/>
        </p:blipFill>
        <p:spPr>
          <a:xfrm>
            <a:off x="5364000" y="1628640"/>
            <a:ext cx="3295800" cy="381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549000"/>
            <a:ext cx="8055000" cy="463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br>
              <a:rPr sz="2800"/>
            </a:b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合理的残肢姿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残端训练</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促进残端角质化的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残端负重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Guest2</cp:lastModifiedBy>
  <dcterms:modified xsi:type="dcterms:W3CDTF">2015-12-17T01:40:23Z</dcterms:modified>
  <cp:revision>107</cp:revision>
  <dc:subject/>
  <dc:title>内科护理学</dc:title>
</cp:coreProperties>
</file>